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5DF0-C6FC-4825-8335-3793249E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09E6-E753-450C-A5E6-B568758D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C6FE-A20C-4FB7-B4E1-B898E6D1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2996-58B9-486D-92C4-0C6B173C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4625-68C1-487F-AB3A-97780D77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AECA-A028-4892-BFA8-C49B1C1B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E5C4-0B18-4E25-A199-143C1132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9607-11C8-4CA9-A4A9-1C99147D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B4F-A3F1-4B22-8BF1-B8BBA0A2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3A7B-C86D-42ED-8A47-83478A26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6760-E96D-4808-BA8D-C0FDF5AE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84B3-0BC1-41A7-A2C5-DA152836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D65F-040B-47B3-BBBB-DF92FC02D9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2.xml"/><Relationship Id="rId3" Type="http://schemas.openxmlformats.org/officeDocument/2006/relationships/slide" Target="slide42.xml"/><Relationship Id="rId4" Type="http://schemas.openxmlformats.org/officeDocument/2006/relationships/slide" Target="slide44.xml"/><Relationship Id="rId5" Type="http://schemas.openxmlformats.org/officeDocument/2006/relationships/slide" Target="slide45.xml"/><Relationship Id="rId6" Type="http://schemas.openxmlformats.org/officeDocument/2006/relationships/slide" Target="slide46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1187280" y="90792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овар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Экзекутор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иновник, ведающий хозяйственными делами учреж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Корневильские колокола»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перетта французского композитора Р.-Ж.-Л.  Планкета. Полицмейстер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чальник городской полиции в крупных городах царской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айный советник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гласно «Табели о рангах», введённой Петро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1722 г., чин, равный генерал-лейтенанту и вице-адмирал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конфузиться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мутить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атский генерал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ражданский чин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V класса (тайный советник или действительный статский советник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аше-ств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сечённое в устной скороговорке обращение «ваше превосходительство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ицмундир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ниформа статских (гражданских) чинов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оситель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еловек, явившийся к должностному  лицу с просьбой, по дел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Аркадия»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звание музыкального теат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Чихнул-с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астица «с» возникла в результате сокращения слова «сударь»; выражение большого почт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партаменты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сторные, роскошно обставленные внутренние помещения, обычно жилы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олю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процесс постепенного непрерывного количественного изменения, подготавливающий качественный изменения; вообще развитие (процесс закономерного изменения, перехода из одного состояния в другое, более совершенное, от низшего к высшему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7600" y="28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2922480" y="16279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" name="Picture 6" descr="bscap002"/>
          <p:cNvPicPr/>
          <p:nvPr/>
        </p:nvPicPr>
        <p:blipFill>
          <a:blip r:embed="rId1"/>
          <a:stretch/>
        </p:blipFill>
        <p:spPr>
          <a:xfrm>
            <a:off x="395280" y="476280"/>
            <a:ext cx="3600360" cy="244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bscap004"/>
          <p:cNvPicPr/>
          <p:nvPr/>
        </p:nvPicPr>
        <p:blipFill>
          <a:blip r:embed="rId2"/>
          <a:stretch/>
        </p:blipFill>
        <p:spPr>
          <a:xfrm>
            <a:off x="4932360" y="476280"/>
            <a:ext cx="3743280" cy="252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3"/>
          <a:stretch/>
        </p:blipFill>
        <p:spPr>
          <a:xfrm>
            <a:off x="395280" y="3141720"/>
            <a:ext cx="3600360" cy="2951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4"/>
          <a:stretch/>
        </p:blipFill>
        <p:spPr>
          <a:xfrm>
            <a:off x="4932360" y="3227400"/>
            <a:ext cx="3743280" cy="286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ь Чех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р короткого рассказа ( всего около 700 слов)  позволил  создать мозаичную картину современного мира. Персонажи Чехова образуют пеструю толпу, это люди разных судеб и разных профессий, их занимают различные проблемы– от мелких бытовых забот до серьезных философских вопросов. И жизнь каждого героя– особая, отдельная черточка русской жизни, в сумме же эти черты обозначают все глобальные проблемы России конца XIX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и Чехов, познавая мир, его людей, торопился рассказать обо всём нам, своим читателям. В своих коротеньких рассказах он, как врач, пытается излечить людей от таких недугов, как пошлость, угодничество, чинопочитание, невежество, ограниченность кругоз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 считал: «Тогда человек станет лучше, когда вы покажете ему, каков он есть». Из множества эпизодов Чехов выбирает такие, в которых раскрываются характеры действующих лиц. В юмористических рассказах такой характеристикой является поведение героя в нелепой ситуации. А ситуации предельно просты, например, заболели зубы, проиграл деньги, случайная встреча друзей детства или... чихнул в теат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바탕"/>
                <a:ea typeface="바탕"/>
              </a:rPr>
              <a:t>Динамическая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Мы все вместе улыбнем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Подмигнем слегка друг друг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право, влево повернем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повороты влево- вправ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И кивнем затем по кру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наклоны влево-вправ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се идеи победи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верх взметнулись наши 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поднимаем руки вверх- вни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Груз забот с себя стряхну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И продолжим путь наук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«Инсер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2133720"/>
          <a:ext cx="8496360" cy="3456000"/>
        </p:xfrm>
        <a:graphic>
          <a:graphicData uri="http://schemas.openxmlformats.org/drawingml/2006/table">
            <a:tbl>
              <a:tblPr/>
              <a:tblGrid>
                <a:gridCol w="1800000"/>
                <a:gridCol w="1584360"/>
                <a:gridCol w="2125800"/>
                <a:gridCol w="2986200"/>
              </a:tblGrid>
              <a:tr h="949320"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+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!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-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?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6680"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л(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в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умал(а) иначе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понял(а),есть вопрос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олюция образа «маленького челове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042920" y="1552680"/>
            <a:ext cx="697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ы вы распределили героев на эволюционной ступени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" name="Group 14"/>
          <p:cNvGrpSpPr/>
          <p:nvPr/>
        </p:nvGrpSpPr>
        <p:grpSpPr>
          <a:xfrm>
            <a:off x="611280" y="3141720"/>
            <a:ext cx="1800000" cy="647640"/>
            <a:chOff x="611280" y="3141720"/>
            <a:chExt cx="1800000" cy="647640"/>
          </a:xfrm>
        </p:grpSpPr>
        <p:sp>
          <p:nvSpPr>
            <p:cNvPr id="85" name="Rectangle 12"/>
            <p:cNvSpPr/>
            <p:nvPr/>
          </p:nvSpPr>
          <p:spPr>
            <a:xfrm>
              <a:off x="611280" y="3141720"/>
              <a:ext cx="12952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Text Box 13"/>
            <p:cNvSpPr/>
            <p:nvPr/>
          </p:nvSpPr>
          <p:spPr>
            <a:xfrm>
              <a:off x="753840" y="3141720"/>
              <a:ext cx="165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" action="ppaction://hlinksldjump"/>
                </a:rPr>
                <a:t>Самсон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2" action="ppaction://hlinksldjump"/>
                </a:rPr>
                <a:t>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3" action="ppaction://hlinksldjump"/>
                </a:rPr>
                <a:t>Вырин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7" name="AutoShape 16"/>
          <p:cNvSpPr/>
          <p:nvPr/>
        </p:nvSpPr>
        <p:spPr>
          <a:xfrm rot="5400000">
            <a:off x="2158920" y="2962080"/>
            <a:ext cx="649440" cy="1151280"/>
          </a:xfrm>
          <a:custGeom>
            <a:avLst/>
            <a:gdLst>
              <a:gd name="textAreaLeft" fmla="*/ 373680 w 649440"/>
              <a:gd name="textAreaRight" fmla="*/ 570240 w 649440"/>
              <a:gd name="textAreaTop" fmla="*/ 182880 h 1151280"/>
              <a:gd name="textAreaBottom" fmla="*/ 46476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526" y="0"/>
                </a:lnTo>
                <a:lnTo>
                  <a:pt x="15526" y="3435"/>
                </a:lnTo>
                <a:lnTo>
                  <a:pt x="12427" y="3435"/>
                </a:lnTo>
                <a:cubicBezTo>
                  <a:pt x="5564" y="3435"/>
                  <a:pt x="0" y="7340"/>
                  <a:pt x="0" y="12158"/>
                </a:cubicBezTo>
                <a:lnTo>
                  <a:pt x="0" y="21600"/>
                </a:lnTo>
                <a:lnTo>
                  <a:pt x="5405" y="21600"/>
                </a:lnTo>
                <a:lnTo>
                  <a:pt x="5405" y="12158"/>
                </a:lnTo>
                <a:cubicBezTo>
                  <a:pt x="5405" y="10261"/>
                  <a:pt x="8549" y="8723"/>
                  <a:pt x="12427" y="8723"/>
                </a:cubicBezTo>
                <a:lnTo>
                  <a:pt x="15526" y="8723"/>
                </a:lnTo>
                <a:lnTo>
                  <a:pt x="155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AutoShape 21"/>
          <p:cNvSpPr/>
          <p:nvPr/>
        </p:nvSpPr>
        <p:spPr>
          <a:xfrm rot="5400000">
            <a:off x="3743280" y="3537000"/>
            <a:ext cx="649440" cy="1296720"/>
          </a:xfrm>
          <a:custGeom>
            <a:avLst/>
            <a:gdLst>
              <a:gd name="textAreaLeft" fmla="*/ 373680 w 649440"/>
              <a:gd name="textAreaRight" fmla="*/ 570240 w 649440"/>
              <a:gd name="textAreaTop" fmla="*/ 205920 h 1296720"/>
              <a:gd name="textAreaBottom" fmla="*/ 52380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526" y="0"/>
                </a:lnTo>
                <a:lnTo>
                  <a:pt x="15526" y="3435"/>
                </a:lnTo>
                <a:lnTo>
                  <a:pt x="12427" y="3435"/>
                </a:lnTo>
                <a:cubicBezTo>
                  <a:pt x="5564" y="3435"/>
                  <a:pt x="0" y="7340"/>
                  <a:pt x="0" y="12158"/>
                </a:cubicBezTo>
                <a:lnTo>
                  <a:pt x="0" y="21600"/>
                </a:lnTo>
                <a:lnTo>
                  <a:pt x="5405" y="21600"/>
                </a:lnTo>
                <a:lnTo>
                  <a:pt x="5405" y="12158"/>
                </a:lnTo>
                <a:cubicBezTo>
                  <a:pt x="5405" y="10261"/>
                  <a:pt x="8549" y="8723"/>
                  <a:pt x="12427" y="8723"/>
                </a:cubicBezTo>
                <a:lnTo>
                  <a:pt x="15526" y="8723"/>
                </a:lnTo>
                <a:lnTo>
                  <a:pt x="155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" name="Group 22"/>
          <p:cNvGrpSpPr/>
          <p:nvPr/>
        </p:nvGrpSpPr>
        <p:grpSpPr>
          <a:xfrm>
            <a:off x="3635280" y="4508640"/>
            <a:ext cx="1873080" cy="691560"/>
            <a:chOff x="3635280" y="4508640"/>
            <a:chExt cx="1873080" cy="691560"/>
          </a:xfrm>
        </p:grpSpPr>
        <p:sp>
          <p:nvSpPr>
            <p:cNvPr id="90" name="Rectangle 23"/>
            <p:cNvSpPr/>
            <p:nvPr/>
          </p:nvSpPr>
          <p:spPr>
            <a:xfrm>
              <a:off x="3635280" y="4508640"/>
              <a:ext cx="1347840" cy="69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Text Box 24"/>
            <p:cNvSpPr/>
            <p:nvPr/>
          </p:nvSpPr>
          <p:spPr>
            <a:xfrm>
              <a:off x="3783600" y="450864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4" action="ppaction://hlinksldjump"/>
                </a:rPr>
                <a:t>Акакий Акакиевич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" name="AutoShape 25"/>
          <p:cNvSpPr/>
          <p:nvPr/>
        </p:nvSpPr>
        <p:spPr>
          <a:xfrm rot="5400000">
            <a:off x="5363280" y="4148640"/>
            <a:ext cx="649080" cy="1368720"/>
          </a:xfrm>
          <a:custGeom>
            <a:avLst/>
            <a:gdLst>
              <a:gd name="textAreaLeft" fmla="*/ 373320 w 649080"/>
              <a:gd name="textAreaRight" fmla="*/ 569880 w 649080"/>
              <a:gd name="textAreaTop" fmla="*/ 217440 h 1368720"/>
              <a:gd name="textAreaBottom" fmla="*/ 55260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526" y="0"/>
                </a:lnTo>
                <a:lnTo>
                  <a:pt x="15526" y="3435"/>
                </a:lnTo>
                <a:lnTo>
                  <a:pt x="12427" y="3435"/>
                </a:lnTo>
                <a:cubicBezTo>
                  <a:pt x="5564" y="3435"/>
                  <a:pt x="0" y="7340"/>
                  <a:pt x="0" y="12158"/>
                </a:cubicBezTo>
                <a:lnTo>
                  <a:pt x="0" y="21600"/>
                </a:lnTo>
                <a:lnTo>
                  <a:pt x="5405" y="21600"/>
                </a:lnTo>
                <a:lnTo>
                  <a:pt x="5405" y="12158"/>
                </a:lnTo>
                <a:cubicBezTo>
                  <a:pt x="5405" y="10261"/>
                  <a:pt x="8549" y="8723"/>
                  <a:pt x="12427" y="8723"/>
                </a:cubicBezTo>
                <a:lnTo>
                  <a:pt x="15526" y="8723"/>
                </a:lnTo>
                <a:lnTo>
                  <a:pt x="155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" name="Group 26"/>
          <p:cNvGrpSpPr/>
          <p:nvPr/>
        </p:nvGrpSpPr>
        <p:grpSpPr>
          <a:xfrm>
            <a:off x="5219640" y="5157720"/>
            <a:ext cx="1873080" cy="691920"/>
            <a:chOff x="5219640" y="5157720"/>
            <a:chExt cx="1873080" cy="691920"/>
          </a:xfrm>
        </p:grpSpPr>
        <p:sp>
          <p:nvSpPr>
            <p:cNvPr id="94" name="Rectangle 27"/>
            <p:cNvSpPr/>
            <p:nvPr/>
          </p:nvSpPr>
          <p:spPr>
            <a:xfrm>
              <a:off x="5219640" y="5157720"/>
              <a:ext cx="1347840" cy="69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Text Box 28"/>
            <p:cNvSpPr/>
            <p:nvPr/>
          </p:nvSpPr>
          <p:spPr>
            <a:xfrm>
              <a:off x="5367960" y="515772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5" action="ppaction://hlinksldjump"/>
                </a:rPr>
                <a:t>Капитан Копейкин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6" name="AutoShape 29"/>
          <p:cNvSpPr/>
          <p:nvPr/>
        </p:nvSpPr>
        <p:spPr>
          <a:xfrm rot="5400000">
            <a:off x="6947640" y="4798080"/>
            <a:ext cx="649440" cy="1368720"/>
          </a:xfrm>
          <a:custGeom>
            <a:avLst/>
            <a:gdLst>
              <a:gd name="textAreaLeft" fmla="*/ 373680 w 649440"/>
              <a:gd name="textAreaRight" fmla="*/ 570240 w 649440"/>
              <a:gd name="textAreaTop" fmla="*/ 217440 h 1368720"/>
              <a:gd name="textAreaBottom" fmla="*/ 55260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526" y="0"/>
                </a:lnTo>
                <a:lnTo>
                  <a:pt x="15526" y="3435"/>
                </a:lnTo>
                <a:lnTo>
                  <a:pt x="12427" y="3435"/>
                </a:lnTo>
                <a:cubicBezTo>
                  <a:pt x="5564" y="3435"/>
                  <a:pt x="0" y="7340"/>
                  <a:pt x="0" y="12158"/>
                </a:cubicBezTo>
                <a:lnTo>
                  <a:pt x="0" y="21600"/>
                </a:lnTo>
                <a:lnTo>
                  <a:pt x="5405" y="21600"/>
                </a:lnTo>
                <a:lnTo>
                  <a:pt x="5405" y="12158"/>
                </a:lnTo>
                <a:cubicBezTo>
                  <a:pt x="5405" y="10261"/>
                  <a:pt x="8549" y="8723"/>
                  <a:pt x="12427" y="8723"/>
                </a:cubicBezTo>
                <a:lnTo>
                  <a:pt x="15526" y="8723"/>
                </a:lnTo>
                <a:lnTo>
                  <a:pt x="155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" name="Group 30"/>
          <p:cNvGrpSpPr/>
          <p:nvPr/>
        </p:nvGrpSpPr>
        <p:grpSpPr>
          <a:xfrm>
            <a:off x="6804000" y="5805360"/>
            <a:ext cx="1942920" cy="433440"/>
            <a:chOff x="6804000" y="5805360"/>
            <a:chExt cx="1942920" cy="433440"/>
          </a:xfrm>
        </p:grpSpPr>
        <p:sp>
          <p:nvSpPr>
            <p:cNvPr id="98" name="Rectangle 31"/>
            <p:cNvSpPr/>
            <p:nvPr/>
          </p:nvSpPr>
          <p:spPr>
            <a:xfrm>
              <a:off x="6804000" y="5805360"/>
              <a:ext cx="13982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Text Box 32"/>
            <p:cNvSpPr/>
            <p:nvPr/>
          </p:nvSpPr>
          <p:spPr>
            <a:xfrm>
              <a:off x="6957720" y="5805360"/>
              <a:ext cx="17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6" action="ppaction://hlinksldjump"/>
                </a:rPr>
                <a:t>Червяков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Маленький челове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50920" y="1184400"/>
            <a:ext cx="475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аленький человек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ушкина, Гоголя бунтует, отстаивает свои права: Самсон Вырин мнёт и бросает бумажки, которые даёт ему Минский. Правда, потом опомнился, вернулся, но их не оказалось уже, тем не менее первоначально это был бунт. Евгений из «Медного всадника» грозит статуе Петра Первого:«Ужо тебе!», Акакий Акакиевич Башмачкин идёт с просьбой к значительному лицу, потом в фантастическом финале всё-таки постоял за себя, про капитана Копейкина рассказывают, будто он стал главарём шайки. В общем, все борются с несправедливостью. А герои Чехова добровольно на себя надевают ярмо раба. Можно ли представить Червякова протестующим? Да и зачем протестовать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10" descr="рисунок1"/>
          <p:cNvPicPr/>
          <p:nvPr/>
        </p:nvPicPr>
        <p:blipFill>
          <a:blip r:embed="rId1"/>
          <a:stretch/>
        </p:blipFill>
        <p:spPr>
          <a:xfrm>
            <a:off x="6732720" y="3284640"/>
            <a:ext cx="2127240" cy="276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pushkin-2"/>
          <p:cNvPicPr/>
          <p:nvPr/>
        </p:nvPicPr>
        <p:blipFill>
          <a:blip r:embed="rId2"/>
          <a:stretch/>
        </p:blipFill>
        <p:spPr>
          <a:xfrm>
            <a:off x="5076720" y="1125360"/>
            <a:ext cx="2448000" cy="243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3816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хов стремился писать так, чтобы читатели и зрители не просто переживали, страдали и плакали вместе с его героями, но чтобы это сопереживание наталкивало их мысль: как же надо жить? Что сделать, чтобы жизнь стала ино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. Папе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skf2E"/>
          <p:cNvPicPr/>
          <p:nvPr/>
        </p:nvPicPr>
        <p:blipFill>
          <a:blip r:embed="rId1"/>
          <a:stretch/>
        </p:blipFill>
        <p:spPr>
          <a:xfrm>
            <a:off x="4572000" y="1268280"/>
            <a:ext cx="42130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698508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ет ли общество, в котором главное - чин, иметь будущее? Поделитесь своими мыслями и впечатлениями. Закончите предлож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2204640"/>
            <a:ext cx="361008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Такое общество может иметь будущее, потому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ет, такое общество не может иметь будущего, потому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ygvfysvgjds"/>
          <p:cNvPicPr/>
          <p:nvPr/>
        </p:nvPicPr>
        <p:blipFill>
          <a:blip r:embed="rId1"/>
          <a:stretch/>
        </p:blipFill>
        <p:spPr>
          <a:xfrm>
            <a:off x="5589720" y="1844640"/>
            <a:ext cx="32176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539640" y="189000"/>
            <a:ext cx="820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797040" y="1471680"/>
            <a:ext cx="7993080" cy="48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чинение- миниатюра  на одну из те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Как  я борюсь с «маленьким  человеком» в себ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Что нужно делать, чтобы не остаться  «маленьким человеком?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Образ современного «маленького человека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8"/>
          <p:cNvGrpSpPr/>
          <p:nvPr/>
        </p:nvGrpSpPr>
        <p:grpSpPr>
          <a:xfrm>
            <a:off x="468360" y="351000"/>
            <a:ext cx="8156520" cy="4301640"/>
            <a:chOff x="468360" y="351000"/>
            <a:chExt cx="8156520" cy="4301640"/>
          </a:xfrm>
        </p:grpSpPr>
        <p:sp>
          <p:nvSpPr>
            <p:cNvPr id="43" name="Rectangle 4"/>
            <p:cNvSpPr/>
            <p:nvPr/>
          </p:nvSpPr>
          <p:spPr>
            <a:xfrm>
              <a:off x="900360" y="351000"/>
              <a:ext cx="7197480" cy="13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нтон Павлович Чехов</a:t>
              </a:r>
              <a:br>
                <a:rPr sz="2800"/>
              </a:b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860 – 1904)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4" name="Рисунок 0" descr="000576.jpg"/>
            <p:cNvPicPr/>
            <p:nvPr/>
          </p:nvPicPr>
          <p:blipFill>
            <a:blip r:embed="rId1"/>
            <a:stretch/>
          </p:blipFill>
          <p:spPr>
            <a:xfrm>
              <a:off x="468360" y="1483560"/>
              <a:ext cx="2303640" cy="316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6"/>
            <p:cNvSpPr/>
            <p:nvPr/>
          </p:nvSpPr>
          <p:spPr>
            <a:xfrm>
              <a:off x="4284720" y="3780720"/>
              <a:ext cx="434016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6" name="Picture 8" descr="C:\Users\777\Desktop\открытый урок\images.jpg"/>
          <p:cNvPicPr/>
          <p:nvPr/>
        </p:nvPicPr>
        <p:blipFill>
          <a:blip r:embed="rId2"/>
          <a:stretch/>
        </p:blipFill>
        <p:spPr>
          <a:xfrm>
            <a:off x="2843280" y="1719360"/>
            <a:ext cx="3529080" cy="444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Users\777\Desktop\открытый урок\Без названия.jpg"/>
          <p:cNvPicPr/>
          <p:nvPr/>
        </p:nvPicPr>
        <p:blipFill>
          <a:blip r:embed="rId3"/>
          <a:stretch/>
        </p:blipFill>
        <p:spPr>
          <a:xfrm>
            <a:off x="6454800" y="1484280"/>
            <a:ext cx="23144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884720" y="178920"/>
            <a:ext cx="101916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812000" y="147960"/>
            <a:ext cx="109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skf1A"/>
          <p:cNvPicPr/>
          <p:nvPr/>
        </p:nvPicPr>
        <p:blipFill>
          <a:blip r:embed="rId1"/>
          <a:stretch/>
        </p:blipFill>
        <p:spPr>
          <a:xfrm>
            <a:off x="2050920" y="0"/>
            <a:ext cx="5050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skf15"/>
          <p:cNvPicPr/>
          <p:nvPr/>
        </p:nvPicPr>
        <p:blipFill>
          <a:blip r:embed="rId1"/>
          <a:stretch/>
        </p:blipFill>
        <p:spPr>
          <a:xfrm>
            <a:off x="1908000" y="0"/>
            <a:ext cx="50500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12000" y="147960"/>
            <a:ext cx="109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740720" y="147960"/>
            <a:ext cx="116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... В его огромных глазах отражается все, вся земля и лужи на ней, и солнце, сверкающее в лужах, и души людские»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икто не понимал так ясно и тонко, как он, трагизм мелочей жизни, никто до него не умел так беспощадно правдиво нарисовать людям позорную и тоскливую картину их жиз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громное вы делаете дело вашими небольшими рассказами.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рассказах Чехова нет ничего такого,  чего не было бы в действитель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Горь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8160" y="1197000"/>
            <a:ext cx="667548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это произведение было напечатано в журнале «Осколки» в 1883 году в № 27 от 2 июля, с подзаголовком «Случай», за подписью Антоша Чехо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ленький человек» Этим понятием в литературе обозначают персонаж, не наделённый героическими качествами, не имеющий каких-­то особенных отличий. «Маленький человек» - обычный, заурядны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ость» — не только и не столько продукт социальных отношений (так трактовала проблему литература XIX века), сколько ставшее уже неотъемлемой частью психики внутреннее самоощущение, некое закрепившееся за человеком душевное уродство. Против него, против желания быть «маленьким» и борется Чехов — и смехом в том чис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7" descr="bscap014.jpg"/>
          <p:cNvPicPr/>
          <p:nvPr/>
        </p:nvPicPr>
        <p:blipFill>
          <a:blip r:embed="rId1"/>
          <a:stretch/>
        </p:blipFill>
        <p:spPr>
          <a:xfrm>
            <a:off x="1836720" y="351000"/>
            <a:ext cx="5759640" cy="917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000021.jpg"/>
          <p:cNvPicPr/>
          <p:nvPr/>
        </p:nvPicPr>
        <p:blipFill>
          <a:blip r:embed="rId2"/>
          <a:stretch/>
        </p:blipFill>
        <p:spPr>
          <a:xfrm>
            <a:off x="6804000" y="1413000"/>
            <a:ext cx="2232000" cy="48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58920" y="1483920"/>
            <a:ext cx="3322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03_01_01[1]"/>
          <p:cNvPicPr/>
          <p:nvPr/>
        </p:nvPicPr>
        <p:blipFill>
          <a:blip r:embed="rId1"/>
          <a:stretch/>
        </p:blipFill>
        <p:spPr>
          <a:xfrm>
            <a:off x="179280" y="1341360"/>
            <a:ext cx="4176720" cy="30513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324000" y="4437000"/>
            <a:ext cx="828360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годы реакции: убит император Александр II, правительство всех преследовало. Люди боялись всего. Его величество чиновник занимает главное положение в обществе. Это эпоха разочарований, эпоха переоценки ценностей, эпоха поисков новых путей развития Росс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7" descr="3690066"/>
          <p:cNvPicPr/>
          <p:nvPr/>
        </p:nvPicPr>
        <p:blipFill>
          <a:blip r:embed="rId2"/>
          <a:stretch/>
        </p:blipFill>
        <p:spPr>
          <a:xfrm>
            <a:off x="5292720" y="1413000"/>
            <a:ext cx="345924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4500720" y="4149720"/>
            <a:ext cx="4248000" cy="244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95280" y="620280"/>
            <a:ext cx="8353440" cy="67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хову особенно удаётся коротенький рассказ с внешне незатейливым сюжетом, но с очень глубоким содержание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И. Кулеш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хов не просто описывал жиз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жаждал переделать её, чтобы она стала умнее, человечн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 И. Чу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ы писа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мею коротко говорить о длинных вещ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Краткость - сестра талант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кусство писать - это искусство сокраща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огда человек станет лучше, когда вы покажете ему, каков он е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Маленький рассказ о маленьком человечк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Эволюция образа главного героя  в рассказе А.П. Чехова «Смерть  чиновника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C:\Users\777\Desktop\открытый урок\41fff622.jpg"/>
          <p:cNvPicPr/>
          <p:nvPr/>
        </p:nvPicPr>
        <p:blipFill>
          <a:blip r:embed="rId1"/>
          <a:stretch/>
        </p:blipFill>
        <p:spPr>
          <a:xfrm>
            <a:off x="2556000" y="3357720"/>
            <a:ext cx="431964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207280" cy="5688000"/>
          </a:xfrm>
          <a:prstGeom prst="rect">
            <a:avLst/>
          </a:prstGeom>
          <a:ln w="76320">
            <a:solidFill>
              <a:srgbClr val="c0504d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9:41:43Z</dcterms:created>
  <dc:creator>Харисов Руслан</dc:creator>
  <dc:description/>
  <dc:language>en-US</dc:language>
  <cp:lastModifiedBy>777</cp:lastModifiedBy>
  <dcterms:modified xsi:type="dcterms:W3CDTF">2020-02-26T16:12:08Z</dcterms:modified>
  <cp:revision>78</cp:revision>
  <dc:subject/>
  <dc:title>Антон Павлович Чехов (1860 - 1904)</dc:title>
</cp:coreProperties>
</file>